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7.png" ContentType="image/png"/>
  <Override PartName="/ppt/media/image11.wmf" ContentType="image/x-wmf"/>
  <Override PartName="/ppt/media/image10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98E-584C-431E-B352-4CC73F19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315-041C-4F08-AD19-FABED7FF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1FAE9-DC2E-4E55-861E-C4B1E96B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A8C08-0702-4114-B5C0-8691CE22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AF531-9C87-4974-8703-3597DC12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84B86-BB4F-440B-B4ED-F65B73B2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C35C0-3135-4FEB-9A0D-8FC56C0F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43F33-999B-44E0-B666-64A3C57F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A4FD8-A0EC-44A4-9E12-600D7F06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EE6A5-0187-4991-BFED-1BD2CB83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56BF9-3F06-40AF-865F-C59FD5A7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759E2-FE45-46EB-B3FB-D2B6FD92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02C-CEBC-4D2B-BF75-B627C49C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BF1AB-B355-459B-B195-E50AB15C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0B561-6913-4E2B-A7C4-1ED9CD77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95FD1-A40E-4799-95F8-509ABB90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B547F-45BC-4388-9CB5-64479060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9B8D8-DF9F-4A61-B85B-4D1F7F1E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3A140-499B-4403-B0E0-F5CF26D7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74102-EA91-41A8-A2FB-1CF52555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45800-2E11-4A18-A348-E117A3DA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49091-21E5-432F-B9BD-C40C1C73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77D78-7522-43A8-A2E6-76FA2A3A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B7C-9DCE-4198-817C-B9DB4C0F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80411-0CD0-4B04-A823-AB814F61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37089-6FC6-41B4-8019-67454586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B8CC6-8C51-4A2F-B934-56CC69AB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8746B-9EC2-48A2-97F8-4BDC9D54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66EAB-A30B-4087-AA3D-EB2533E1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5D076-0F42-4C9B-8966-E99EF1CC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5989D-DA9B-44C5-86C5-658DA5D6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BA3DA-B987-4C4E-8F7D-7A9A2078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F6EFC-8818-44F9-986F-4F2AE0C1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E642F-14C8-4122-A189-25E1A5BF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1221-A721-4B10-A8F5-32A5A517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E790F-F74D-44F7-BE2D-BED8D6B6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E2779-0C95-4628-A3B9-CB6BA624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B73FC-9F38-4780-917D-3BAEB095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D57BA-C995-4477-8BD9-E6C7A886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CFF1F-04D6-4E1B-BD8B-BED29545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C0998-3698-4A71-AB7D-F9E1DDFA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FEF83-6F0B-4324-8238-2F314411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75516-2A05-4C3A-8C41-3B099BEA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8984B-8786-4811-9BAC-A73CECE8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44554-4629-4E5F-B78B-7527FBC5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5F86-99D7-4A04-9471-8D386D80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82870-547E-4260-A577-0F43ADAF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79050-AF98-4EC4-A9F9-F0CA5769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D2875-B369-4CB1-8D57-DB4256FC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251D5-E207-43C9-B8F0-AC638C1C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9CD11-A680-422E-AA6D-73C457D4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B265E-9ACD-420A-A9C4-A000576F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53120-A7CA-4268-90C3-38F896B9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7A439-FECC-4D83-A583-012E72E6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55E0B-A61C-4589-B3A4-15A909C0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B96B7-667E-4836-942B-F329EC4A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7350-2B0D-470B-B714-5726DBC1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0D06C-8672-4522-8516-5793E86E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B2488-1A97-4D03-8665-DACB99E3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06DD2-8D7B-447A-8C44-4516E84B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42360-417D-4BBC-944B-67E1849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86BE3-239C-457A-BAF9-2B3C82F0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C266C-A748-4D1C-AA8D-21678E98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8A0CC-5DA6-472E-A3D4-1CF5840C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6DA9-A3BD-475F-9980-B6C2F5E8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60C5-ABB2-4611-9EE2-25E7033E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402C-F8AF-4C1E-975A-551DA692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22D1-88DD-48A7-9E21-A00AD6B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4B5-15EA-4A73-9BC3-6D4EF89D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A1DE-2C13-47B6-8310-8EECCD9A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32F1-FD1F-4976-8D75-0327C261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C69A-D121-4112-855F-87255A83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B089-916B-42AA-8B61-594DAE3D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FD2B-A2B2-4B5A-857F-9E6C7D90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5D7A-12B7-4021-A393-A9E06FBF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09FC-8C43-4A81-B220-D0AABD07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C209A-4B5C-42E9-B3A6-95F5998E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34797-5CBD-4A48-B588-77DFFEB1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9AEAF-5215-4F6A-AA98-05E23C79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E62-6B1C-494D-B4DF-7F430248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F488-82F5-4164-B2AF-48D37D5C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E3B4-B6B4-42B4-A6FE-FE8B6D4A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1D57-21A6-4E6C-9C0F-0A2534F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2A80-1F80-420F-B0B1-8FA58EBD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4B5B1-D517-492E-8A42-86D4C5E4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AF00-7C4D-4535-A0F3-29C82D93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43143-3221-41E7-9493-AEFB2C48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9F047-6BAD-4291-9CB0-3CFA874B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27FB5-173A-488A-9778-5E8590B8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170A2-D217-4C7F-B2F6-74A281D7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31B-FFEC-4989-AE0E-370FE5A0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C6B9F-CD70-485F-B79C-171E5296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886D1-D9CE-4BEE-BA46-B9BAABC7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EFB93-50FC-49DC-9C0B-FF53455B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79100-EB15-4D45-B019-C5EA769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5384-7EC8-4448-A443-0575FC73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576B6-F22A-4B96-A6D8-2EDAFC38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D3B3E-1BC8-419F-A1EC-4928BC32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72466-EF97-4D33-A9EE-E327308E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A301E-2075-4620-99EB-6E36B75F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2471E-A5A6-464B-98A2-F44D1302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0C8-C02F-478D-85B5-9E840442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0CEA7-43CD-4605-B747-B2FCFF01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394EB-2583-4E12-A8FA-EE9B474E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2830B-E0FA-4C2B-B4D8-9B4DE5F2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5D25D-27F2-4628-951B-13E17EAD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CBBB9-C96D-4AA5-BB9C-17CAEC1B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CECDE-E1AA-4FF2-9979-8FA782B1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8FF43-D025-4020-94F7-EFCD752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6688-D8DE-43C0-AFE0-D30B18E2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9D0FD-34FE-4906-B21E-993FEB8E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E1D86-2076-45A2-B51D-AB72206F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90C-964B-4EEC-B35D-C86CE679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10E09-6652-4362-BE7F-230F343A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72667-0C88-4C6C-B382-12BE4479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A574F-C42E-4EC2-B1A8-104D082F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F56CB-D9F2-4A57-BE4A-4F0BE25C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937AA-CA7F-4CBC-B19A-D40DF5C5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68C5C-B7A9-43D8-AABD-26EE3E9A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603E8-8BBF-45D3-A7F1-0ED32EAD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4812-7152-4675-8F12-DBA98AA6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9B3C7-4873-4888-A485-E5216F18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6E8A2-308B-4C15-AB53-1DE62565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0A6-77C3-40F2-B014-7BE64995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C3D90-E381-4275-8D0F-A73A24A2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9A4BE-4C88-4825-8ADC-6FBBEB17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7BBC5-717A-482A-A017-27D8D0D3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DC13E-DACD-4F76-83C8-F38C419E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5BBD1-BC14-4C7C-946D-48EE418D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A81BE-95D2-44DD-B481-D205C983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58A51-04A4-4916-B962-02D1EF09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DDF8-0F2F-4771-9388-23C10C2E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E4223-2C14-44D5-BAAE-CC2ADDC6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1742C-43F1-4656-84BB-64BBE15D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A31-A13A-45E8-8D20-B7AF6E33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85C70-A2C8-445F-997C-D60BE152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F5BD2-306B-4683-9FDF-75408C52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08085-3F0A-485D-A458-E9537C4F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22687-5C4D-4AC8-BB07-12ACDE76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23B2E-ABA2-4835-9533-4C7872DA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E9C71-E1DA-4014-8DE6-66B1E9E7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3187B-C9DC-44E9-AFFF-267A15A1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D21FF-93D5-429B-8942-88C2B1CA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71DBB-A76B-4B47-93F0-FC3140C0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83567-1CBE-4DE6-A92F-FC7BFB8F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323-5C4D-4976-A5D6-B7B5498F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B1688-61AE-4E0E-9BD3-66F309B9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CB40E-73BF-48C6-B1B3-1F7CF5D4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BB4E6-D6D6-4462-BD35-211F0700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3C248-C4C0-440B-9B6B-FE036746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DCBAD-3E8F-48D6-974C-72B66FBF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F2312-4422-41FD-87E3-0283E41D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A0AC8-AA84-4073-8B85-7B3C15D0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18988-671F-4F2A-AB70-7F7AF69D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C745D-BE3E-4AE5-BB58-95A09F47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C5B7F-8EC4-4430-BCB1-947FC0F9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3678-A1ED-4EC2-B7CD-94682976CE7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AC3B-A324-4FC6-B233-5616DE3E1D0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9875-1295-4753-939E-B15535F5F90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F828-FE4F-4110-B7BB-137277D31AC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F601-85CC-4A32-8FC0-D6FF8E63F1B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342C-9048-4E54-92DB-B3302D059BD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2F65-2BDF-4DF1-936A-92200ADAC7F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76BD-7C40-4237-B516-76BBCB6D783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92EE-293B-4C8C-B3D6-5B857C34F44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24E8-CE77-4C4B-9C23-8A5B22723ED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2C67-5D82-4A76-BA99-D2688AD1112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D853-1F16-4117-B421-9CBD950AAE1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303B-FA81-42F0-9B43-B90A1F72748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8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6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www.youtube.com/watch?v=6VdMp46ZIL8" TargetMode="External"/><Relationship Id="rId3" Type="http://schemas.openxmlformats.org/officeDocument/2006/relationships/hyperlink" Target="https://www.youtube.com/watch?v=PDnPr3FiYnQ" TargetMode="External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Što su unutarnja energija, toplina i temp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kada toplina prelazi s toplijeg na hladnije tijel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plina postupno prelaz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 toplijeg na hladnij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jelo dok se kinetičke energije njihovih čestica ne izjednače. To je stanje toplinske ravnotež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ko znamo što je toplije, a što hladni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Slika 1" descr=""/>
          <p:cNvPicPr/>
          <p:nvPr/>
        </p:nvPicPr>
        <p:blipFill>
          <a:blip r:embed="rId1"/>
          <a:stretch/>
        </p:blipFill>
        <p:spPr>
          <a:xfrm>
            <a:off x="5867280" y="719280"/>
            <a:ext cx="2846520" cy="27921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 txBox="1"/>
          <p:nvPr/>
        </p:nvSpPr>
        <p:spPr>
          <a:xfrm>
            <a:off x="17928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osjet top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vam kaže vaš osjet, kakva je ta voda, vruća ili hlad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Temperatura je mjera zagrijanosti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praksi je mjerna jedinica temperatur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Celzijev stupanj (znak °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73" name="Pravokutnik 1"/>
          <p:cNvSpPr/>
          <p:nvPr/>
        </p:nvSpPr>
        <p:spPr>
          <a:xfrm>
            <a:off x="179280" y="6699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ko znamo što je toplije, a što hladni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je veća kinetička energija čestica tijela, veća je i temperatura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mjerite  temperatur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jela imaju jednake temperature kada se pri njihovu dodiru izjednače kinetičke energije njihovih čestica i postigne toplinska ravnotež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Slika 1" descr=""/>
          <p:cNvPicPr/>
          <p:nvPr/>
        </p:nvPicPr>
        <p:blipFill>
          <a:blip r:embed="rId1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179280" y="347400"/>
            <a:ext cx="87854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1. Sigurno ste primijetili da se šećer brže otopi u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vruć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nego u hladnom čaju. Kako biste to objasnil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2. Po čemu se gibanje čestica hladne vode razlikuje od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gibanja čestica vruće vod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3. Kako biste nekome tko nikada nije čuo za unutarnju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energiju opisali taj pojam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4. Kako ćete jezikom fizike iskazati da je jedno tijel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oplije od drugog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5. Kako se postiže toplinska ravnotež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vije čaše s jednakom količinom vode nalaze se na stolu. Koje energije imaju čaše, a koje voda u nji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maju li čaše i voda jednake energi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bismo to provjeri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topla i hladna otopina hipermang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crtaj pokus u bilježnic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odilo s hipermanganom? Je li obojio vodu u obje čaš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3" descr="Unutarnja energija 1.jpg"/>
          <p:cNvPicPr/>
          <p:nvPr/>
        </p:nvPicPr>
        <p:blipFill>
          <a:blip r:embed="rId8"/>
          <a:stretch/>
        </p:blipFill>
        <p:spPr>
          <a:xfrm>
            <a:off x="2268360" y="1914480"/>
            <a:ext cx="4626000" cy="2521080"/>
          </a:xfrm>
          <a:prstGeom prst="rect">
            <a:avLst/>
          </a:prstGeom>
          <a:ln w="0">
            <a:noFill/>
          </a:ln>
        </p:spPr>
      </p:pic>
      <p:pic>
        <p:nvPicPr>
          <p:cNvPr id="552" name="Slika 3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90240" y="1287000"/>
            <a:ext cx="842940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se topla voda obojila brž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se čestice miješaju, znači li to da se molekule vode  gibaju i imaju kinetičku energi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Čestice vruće  vode imaju veću kinetičku energiju, u odnosu prema česticama hladne v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7"/>
          <p:cNvSpPr/>
          <p:nvPr/>
        </p:nvSpPr>
        <p:spPr>
          <a:xfrm>
            <a:off x="755640" y="572436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Arial"/>
              </a:rPr>
              <a:t>Vruća voda                                                       Hladna 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8"/>
          <p:cNvSpPr/>
          <p:nvPr/>
        </p:nvSpPr>
        <p:spPr>
          <a:xfrm>
            <a:off x="755640" y="119700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Kada bismo mogli vidjeti molekule u toploj i hladnoj vodi, vjerojatno bismo razliku među njima vidjeli na način prikazan na donjim animacijama. Plavom bojom obojena je molekula hipermangana, a crvenom molekule v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58" name="Pravokutnik 1"/>
          <p:cNvSpPr/>
          <p:nvPr/>
        </p:nvSpPr>
        <p:spPr>
          <a:xfrm>
            <a:off x="179280" y="3936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www.youtube.com/watch?v=6VdMp46ZI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ravokutnik 2"/>
          <p:cNvSpPr/>
          <p:nvPr/>
        </p:nvSpPr>
        <p:spPr>
          <a:xfrm>
            <a:off x="4464000" y="4722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www.youtube.com/watch?v=PDnPr3FiYn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250560" y="1599840"/>
            <a:ext cx="87850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Zbog međudjelovanja čestice imaju potencijalnu energi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nutarnja energija tijela je zbroj kinetičke i potencijalne energije svih čestica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nutarnja energija ovisi o masi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oplin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bismo povećali unutarnju energiju  hladne vo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Hladnoj vodi možemo povećati unutarnju energiju zagrijavanjem na štednjaku. Unutarnja energija štednjaka prenosi se na vodu pa se voda zagrijava i povećava se njena unutarnja energi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io unutarnje energije koja prelazi s toplijeg na hladnije tijelo naziva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oplina i označujemo je sa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Q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toplina prelazi s tijela na tijel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 mjestu dodira, čestice toplijeg tijela sudaranjem predaju dio svoje kinetičke energije česticama hladnijeg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6:48:50Z</dcterms:created>
  <dc:creator>Mladen Vidović</dc:creator>
  <dc:description/>
  <dc:language>en-US</dc:language>
  <cp:lastModifiedBy>MArina Dumančić</cp:lastModifiedBy>
  <dcterms:modified xsi:type="dcterms:W3CDTF">2019-09-13T20:08:06Z</dcterms:modified>
  <cp:revision>67</cp:revision>
  <dc:subject/>
  <dc:title>UNUTARNJA ENERGIJA</dc:title>
</cp:coreProperties>
</file>